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6A70B-EEAB-4A12-8789-F18DFF3F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5223C-F1C2-4186-8A18-C36BC9AB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36251-0CEB-483B-84D6-F0F2CE6F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2B3E7-E476-44BD-AA37-E065644DE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D077-3DB6-4EAB-89FD-A5EA6D39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A2D3-D470-464F-8DED-40C737DA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8067-ADC9-48AD-9612-CF27307E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EADC-29E3-475E-8F6C-CE8C7C15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1B1F-4C3E-49C8-ABDF-EBAC3181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C233-211E-4143-91D3-DFC29697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0D8B-F364-4741-9CE5-76BA6201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81B91-4DF9-4D81-A20E-06B10F80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FEED-7653-43E3-8F3E-C3177BE8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13C6-81D8-494B-8A9E-33E0E65B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E84F-749D-4B7D-94C0-793E9DFE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8488-513D-4842-8849-7E72E799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B3D5-8EF7-41C2-98B0-8F2C0CE40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41F9A-9013-489B-911F-C5AAF9F6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0EA74-68AA-4F2E-8A38-9CD88DBB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6D569-4AFA-4B49-8206-43E9A040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65BD3-7734-45CC-BD03-7844A049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BF907-140F-41B6-8BE5-8B9867B7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3AF27-3B95-48F3-9FB8-853C62E6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DEB37-D5BB-4651-868A-5558F58E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71BB-622C-4A1F-B674-72DDC28B72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6A8C-DF9B-471B-BD50-1FF194F2A5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ill Cipher Help Pres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polygraphic cipher was developed by the mathematician Lester Hill in 1929 - called the Hill Ciph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kes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cessive plaintext letters and substitutes for them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iphertext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AE1DF-A6BB-4842-A899-954142DE85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3276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haracter is assigned a numerical val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0, b = 1, . . ., z = 2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 the transformation of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given by 3 equations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80320" y="4700520"/>
            <a:ext cx="364068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(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mod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(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mod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(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mod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42560" y="4664160"/>
            <a:ext cx="3841560" cy="1561680"/>
            <a:chOff x="1942560" y="4664160"/>
            <a:chExt cx="3841560" cy="1561680"/>
          </a:xfrm>
        </p:grpSpPr>
        <p:grpSp>
          <p:nvGrpSpPr>
            <p:cNvPr id="119" name=""/>
            <p:cNvGrpSpPr/>
            <p:nvPr/>
          </p:nvGrpSpPr>
          <p:grpSpPr>
            <a:xfrm>
              <a:off x="3794040" y="4664160"/>
              <a:ext cx="1990080" cy="1561680"/>
              <a:chOff x="3794040" y="4664160"/>
              <a:chExt cx="1990080" cy="1561680"/>
            </a:xfrm>
          </p:grpSpPr>
          <p:sp>
            <p:nvSpPr>
              <p:cNvPr id="120" name=""/>
              <p:cNvSpPr/>
              <p:nvPr/>
            </p:nvSpPr>
            <p:spPr>
              <a:xfrm>
                <a:off x="3794040" y="4721040"/>
                <a:ext cx="40896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584240" y="4692600"/>
                <a:ext cx="40932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374800" y="4664160"/>
                <a:ext cx="40932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94040" y="5263920"/>
                <a:ext cx="40896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584240" y="5235480"/>
                <a:ext cx="40932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74800" y="5207040"/>
                <a:ext cx="409320" cy="40896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794040" y="5816520"/>
                <a:ext cx="40896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584240" y="5788080"/>
                <a:ext cx="409320" cy="40896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74800" y="5759280"/>
                <a:ext cx="40932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1942560" y="528480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K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A2265-D0C4-4A55-8781-7675EE38AF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160" y="1636560"/>
            <a:ext cx="774396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ill cipher is really a matrix multiplic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ciphering key is an n x n matrix,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ciphering key is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if n = 3 one possible key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053000" y="4057560"/>
            <a:ext cx="3120120" cy="1074240"/>
            <a:chOff x="1053000" y="4057560"/>
            <a:chExt cx="3120120" cy="1074240"/>
          </a:xfrm>
        </p:grpSpPr>
        <p:sp>
          <p:nvSpPr>
            <p:cNvPr id="133" name=""/>
            <p:cNvSpPr/>
            <p:nvPr/>
          </p:nvSpPr>
          <p:spPr>
            <a:xfrm>
              <a:off x="1706400" y="4214880"/>
              <a:ext cx="2466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7  17  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1  18  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   2  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53000" y="4057560"/>
              <a:ext cx="2974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 = 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(       )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978440" y="4073400"/>
            <a:ext cx="3331800" cy="1034640"/>
            <a:chOff x="4978440" y="4073400"/>
            <a:chExt cx="3331800" cy="1034640"/>
          </a:xfrm>
        </p:grpSpPr>
        <p:sp>
          <p:nvSpPr>
            <p:cNvPr id="136" name=""/>
            <p:cNvSpPr/>
            <p:nvPr/>
          </p:nvSpPr>
          <p:spPr>
            <a:xfrm>
              <a:off x="5843520" y="4191120"/>
              <a:ext cx="2466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   9  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5  17  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4   0  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78440" y="4073400"/>
              <a:ext cx="3183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(       )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341720" y="547992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   ‘n o 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98520" y="57056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14 2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319560" y="5310360"/>
            <a:ext cx="4036320" cy="1458360"/>
            <a:chOff x="3319560" y="5310360"/>
            <a:chExt cx="4036320" cy="1458360"/>
          </a:xfrm>
        </p:grpSpPr>
        <p:sp>
          <p:nvSpPr>
            <p:cNvPr id="141" name=""/>
            <p:cNvSpPr/>
            <p:nvPr/>
          </p:nvSpPr>
          <p:spPr>
            <a:xfrm>
              <a:off x="3319560" y="5334120"/>
              <a:ext cx="2854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3351240" y="5310360"/>
              <a:ext cx="4004640" cy="801720"/>
              <a:chOff x="3351240" y="5310360"/>
              <a:chExt cx="4004640" cy="801720"/>
            </a:xfrm>
          </p:grpSpPr>
          <p:sp>
            <p:nvSpPr>
              <p:cNvPr id="143" name=""/>
              <p:cNvSpPr/>
              <p:nvPr/>
            </p:nvSpPr>
            <p:spPr>
              <a:xfrm>
                <a:off x="4398840" y="5343840"/>
                <a:ext cx="3664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3351240" y="5310360"/>
                <a:ext cx="4004640" cy="801720"/>
                <a:chOff x="3351240" y="5310360"/>
                <a:chExt cx="4004640" cy="801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511080" y="5446800"/>
                  <a:ext cx="91224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17 17  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1 18 2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  2 19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351240" y="5310360"/>
                  <a:ext cx="3664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00"/>
                      </a:solidFill>
                      <a:latin typeface="Arial"/>
                    </a:rPr>
                    <a:t>(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820400" y="5343840"/>
                  <a:ext cx="25354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00"/>
                      </a:solidFill>
                      <a:latin typeface="Arial"/>
                    </a:rPr>
                    <a:t>) = ( )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mod 26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230720" y="5337360"/>
                  <a:ext cx="3664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618440" y="5470560"/>
                  <a:ext cx="36360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1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1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836320" y="5451480"/>
                  <a:ext cx="36360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1" name=""/>
          <p:cNvGrpSpPr/>
          <p:nvPr/>
        </p:nvGrpSpPr>
        <p:grpSpPr>
          <a:xfrm>
            <a:off x="5600160" y="6068520"/>
            <a:ext cx="842040" cy="791640"/>
            <a:chOff x="5600160" y="6068520"/>
            <a:chExt cx="842040" cy="791640"/>
          </a:xfrm>
        </p:grpSpPr>
        <p:sp>
          <p:nvSpPr>
            <p:cNvPr id="152" name=""/>
            <p:cNvSpPr/>
            <p:nvPr/>
          </p:nvSpPr>
          <p:spPr>
            <a:xfrm>
              <a:off x="5600160" y="640044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 u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013440" y="6068520"/>
              <a:ext cx="0" cy="49212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DC415-85B2-4429-85B6-FD6455CFA9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3520" y="1787400"/>
            <a:ext cx="82296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P will create a Hill cipher for groups of 2 to 6 charac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790720" y="3552840"/>
            <a:ext cx="4735440" cy="3068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381560" y="3583080"/>
            <a:ext cx="1390680" cy="676080"/>
          </a:xfrm>
          <a:prstGeom prst="wedgeRoundRectCallout">
            <a:avLst>
              <a:gd name="adj1" fmla="val -43722"/>
              <a:gd name="adj2" fmla="val 60796"/>
              <a:gd name="adj3" fmla="val 16667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First, enter the group size – which is the same as the matrix 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81160" y="3068640"/>
            <a:ext cx="1390680" cy="676440"/>
          </a:xfrm>
          <a:prstGeom prst="wedgeRoundRectCallout">
            <a:avLst>
              <a:gd name="adj1" fmla="val -43722"/>
              <a:gd name="adj2" fmla="val 60796"/>
              <a:gd name="adj3" fmla="val 16667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CAP will generate a matrix for you or you can load 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3502F-5DFD-4BB1-B6CE-0F1C6F77F7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8T02:53:41Z</dcterms:modified>
  <cp:revision>68</cp:revision>
  <dc:subject/>
  <dc:title>CAP Cryptographic Analysis Program</dc:title>
</cp:coreProperties>
</file>